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CB4C-7E6F-41FB-BC59-584B3221D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48E5-16D7-4A6C-A48C-E77C1722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84A5-A26B-4FD1-9088-A2A5FC6C1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22AE-CB62-46CC-B68D-4F57C47E5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9832-5C0A-4A02-BC0E-68590BAF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431A-81D9-4E3F-88FB-05341070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94F0-FFEE-4B60-B895-B2579E4D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BD7B-5E9A-408A-BD21-3850DE1F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14EF-5079-4978-9398-4A2F503C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47C5-1D48-4C6F-8147-B70DAF30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87A6-7F99-4070-ADEB-8EA104F7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D8BD-8391-4AA4-98D6-E06A5D10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14C2-D9CD-4EC8-A928-E93FC25BA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754200" y="52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80880" y="523800"/>
            <a:ext cx="6019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bric Used During Share Time to Assess Independent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eo Clip From: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eaching for Deep Comprehen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Linda Dorn &amp; Carla Soff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100_2987"/>
          <p:cNvPicPr/>
          <p:nvPr/>
        </p:nvPicPr>
        <p:blipFill>
          <a:blip r:embed="rId1"/>
          <a:stretch/>
        </p:blipFill>
        <p:spPr>
          <a:xfrm>
            <a:off x="838080" y="4419720"/>
            <a:ext cx="50292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14440" y="380880"/>
            <a:ext cx="5829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14080" y="1219320"/>
            <a:ext cx="5810040" cy="76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read the whole ti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stayed in one good reading spot the whole ti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picked just right boo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respected the readers around 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read way down deep. I was lost in the boo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read quiet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stopped and reread when it didn’t make sen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58291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5829480" cy="75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read most of the ti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stayed in one good reading spot the whole ti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picked just right boo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respected the readers around 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y books made sense or I went back to rer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read quiet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used strategies to get through the tricky par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440" y="4568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14440" y="1447920"/>
            <a:ext cx="5829120" cy="66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read some of the ti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changed reading spo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had some just right books, but I could be more carefu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respected the readers around 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sort of understood what I r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got through some tricky spots, but I skipped so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4440" y="60912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4440" y="1599840"/>
            <a:ext cx="5829120" cy="652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wasted precious ti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moved around a lo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was not very careful about my book choi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played the pretend ga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got off track and pulled other readers off trac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3T18:28:46Z</dcterms:created>
  <dc:creator>Linda Dorn</dc:creator>
  <dc:description/>
  <dc:language>en-US</dc:language>
  <cp:lastModifiedBy>awhited</cp:lastModifiedBy>
  <dcterms:modified xsi:type="dcterms:W3CDTF">2010-08-30T15:29:33Z</dcterms:modified>
  <cp:revision>2</cp:revision>
  <dc:subject/>
  <dc:title>PowerPoint Presentation</dc:title>
</cp:coreProperties>
</file>